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210-8210-4C14-8F15-4B2A7733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887-57AD-45AA-A400-B2ED530C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AF3-3B35-479C-B860-03707876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969-1A25-40E0-B662-E363E230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509-5B9C-4ADB-8E9F-00E509A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594-0BEA-487F-8729-FA27078C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849-9E16-4613-877B-8F2C2492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9A8-30A2-465A-88EC-69B08333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848-8CDD-4284-A6A0-FA8DCC17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BB5-307A-4A6F-AFF8-B1963114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027-0EB1-4C68-AE2F-42178FFB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FCF-D44E-4951-8FF3-C03299D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4BFD-0AF2-4CBC-B651-ED2879F97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wmf"/><Relationship Id="rId3" Type="http://schemas.openxmlformats.org/officeDocument/2006/relationships/slide" Target="slide4.xml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066680"/>
            <a:ext cx="1295640" cy="152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4419720"/>
            <a:ext cx="2144880" cy="150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781680" y="3962520"/>
            <a:ext cx="1524240" cy="1571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553080" y="838080"/>
            <a:ext cx="1648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129564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92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ry! Try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53080" y="838080"/>
            <a:ext cx="1648080" cy="181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92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2144880" cy="150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92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524240" cy="1571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92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21:46:11Z</dcterms:created>
  <dc:creator>Wake County Public Schools</dc:creator>
  <dc:description/>
  <dc:language>en-US</dc:language>
  <cp:lastModifiedBy>Wake County Public Schools</cp:lastModifiedBy>
  <dcterms:modified xsi:type="dcterms:W3CDTF">2009-04-30T22:04:38Z</dcterms:modified>
  <cp:revision>2</cp:revision>
  <dc:subject/>
  <dc:title>-ap</dc:title>
</cp:coreProperties>
</file>